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1.jpeg" ContentType="image/jpeg"/>
  <Override PartName="/ppt/media/image26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8CF9-D668-4774-9630-C1602BDA8AF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7C92-B3D5-4F50-B66D-C812CB8CCC7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3D2-3938-4389-AA9A-D2B56A2D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A9A-C724-4843-BBB4-6F560FB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7AF5-16F3-4DA8-A40E-1A3EC55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C0630-EDE1-4513-8C0D-7F0977DF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F866F-1FC0-4021-BA78-D104EEA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32C16-17B1-4681-A304-76D0A5A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1BCCF-8EE7-4890-9C7C-EA62DD4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632D0-1F20-4F59-8FA5-C7F6D2D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D5904-C59B-43CD-BEC1-1C126B9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6B19E-4542-4275-A5D3-D0BE2031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59C6A-7DA9-4C02-BEE9-04DB9B59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4E20E-9079-4C55-9F6F-C082D57C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1B7-150C-4BE8-8F0E-74C498C9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C5A21-0465-4CA1-A8AA-9472422A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65C8-4339-4B27-B43A-36716B94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F27EF-1044-4960-84C4-8C4934A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FB44-4CE9-4A9C-858D-B93F16C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7DB94-4FE5-4163-81B2-052A615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D4D59-8F3E-4181-BF06-592766A5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8CFF-FF03-4BA5-9604-15E0AF11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4FD4-5BB5-4A56-82B8-0CC614A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622E2-71DC-40BC-BEDB-0AC39A9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BC0FC-31F6-4523-BF13-4845B2E0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F76-9A23-439E-A143-4BA3EC4C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6E78-317F-4C48-B309-C930BBB4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31E8-876A-40E9-AEC5-EFC4B98E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E0E0-0D64-4A6F-99EB-84E1F28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6326-0138-46BB-B01B-28E15071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35725-A842-4003-A287-F56855B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236E-5802-4A00-B9DE-3F053CF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41088-3A09-484E-96D6-822A5A80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0E7E-B53F-4CA5-982D-CDC6B0F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8421E-D039-41EB-84C9-807D0EE6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3FDF5-DE2F-47F0-974F-FE15AE65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554C-E23E-41E9-AC4C-E512D68A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34E84-3D65-44D0-ABFF-746A7E1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7734-9568-49BC-98B8-8A265610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CC5D6-CE55-4035-A09C-A7596809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B0E16-58FC-414C-A023-55598160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8B87A-BB80-470E-96A3-504182D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5EAB1-DDA0-4B19-B2E4-D1F8E8F7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85A3E-9CE5-42BC-9A1E-806DC7F2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841FB-AFEC-43BC-8166-0B6FE32A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8A3D-2FFC-4B10-91BD-7492E41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B7070-0712-4146-B43C-7264AD7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434C-F823-442F-B8E0-2328539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EEF63-5A41-4920-BCED-105CF5F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3B57B-4DFB-4825-A9B0-E8B579F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8464A-95AC-4F72-AB49-91BED327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1823B-BAB6-4581-9ACF-1FB82813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D5942-ACF2-4CE2-891C-0D845354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049A7-5B37-4317-A49A-37372E6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E4ED2-A390-4526-98C7-B59F77F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5EFC0-C1B9-4A88-800D-16BC358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59658-D721-4311-AAF9-26347A5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9EE94-257F-42A1-8652-ACA4A82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6B9-C7AF-488F-AF89-B24A915C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10134-0731-4A1B-BEC0-628E3A1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B91B6-4779-4856-B92A-632B872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B9754-B4A2-4ECB-AC2D-000ED40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5A58D-B44E-443E-BA2E-CA0A938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948D3-11DA-43F0-9D9C-9375223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BF74E-14B1-43D0-A08A-5D9C3E3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C5829-4B47-4CBE-8B7B-4B7D7A64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2233A-AADE-4CC0-AB7E-41C99660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1B5FC-2B7F-4DD0-99F9-5DBA2C4B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0D41E-3801-4512-84B9-3B244A78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8976-A125-4998-9892-A9B9B38F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76172-6661-4584-A3FF-DD2BDFC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62D19-54C4-40F8-B7AD-1D60B83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36E74-C76E-4712-B9C0-A1387F1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B5314-AB46-4308-BC0A-B5AE0D1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5C99F-5745-4701-9153-5557354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AF2B7-F68A-4B3C-A5C0-658F60E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17009-9051-4AE6-9EBE-C1EEFA7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CD2E1-709B-4643-ACF2-D8461B6C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0B67B-E2CC-4BA5-BFAA-07B02143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5B5E4-3FAF-4904-93C4-4D8989B0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FEE6-DA28-491C-96F8-728608C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9BF36-39A4-4B05-9380-D95C7D4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DB42A-0D36-48EA-A672-F5851F8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06AF3-62DE-426D-893D-17816D5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69081-3461-4290-80F4-9EBBF6D7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73199-23E2-4766-90D0-F8178A26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9CB52-E475-4817-BB59-9B36281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43A29-82EE-4044-98BC-F80FD0FA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15CB2-D3E2-43CE-9786-8A5C2E6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19BC1-151D-4E29-865E-C0CAD08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59DF6-232F-4D4B-B9EB-1F723B8B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5800-D5BF-4ECC-8723-F1A074C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A8D63-3C67-43EE-B8AC-03EDC1C0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4CC9C-66C1-4E2A-A236-1B588387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FE130-2302-4195-957D-8650BA7E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BB650-A9CA-4885-899E-C910651C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D464F-BDBD-470A-AD7D-F1FB4FD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A0F0F-661A-41DD-B897-9947DE0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38AD0-F5D2-4906-9354-C41ADF2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9881F-1F60-48EC-AB77-D459984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CB810-FC34-417C-95B9-9F3E791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18797-6647-4EC7-8A70-11E8D11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031-BCD8-4A22-89B4-033A9E8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36552-BC63-4E17-ACA3-D47E468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D6277-BA2B-4832-BF2E-D0219602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088ED-D967-4447-8B27-02E795F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67FE5-6C24-4096-B584-1FF239C1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82855-58C5-4818-92B5-B03096E9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8E7B4-A2CC-4E96-991F-C352889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BF9E6-43EA-4763-A391-C85AF32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56B55-60D9-4430-ACB2-23DFEAA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8B7E3-08E2-466A-90A0-94D3ADD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A85AB-B917-49D2-AD0F-B6913C4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E38-669A-43F6-AC66-3709C03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36E-BB1D-4770-843F-67D42B9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461E2-09BA-47D2-B605-467A9FAC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5D45F-5477-4250-89D5-F75DDD3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75333-358A-4EC4-873D-3D89B43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62592-326F-4B0A-80DB-B051C5C6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7E055-2EEA-43F3-B926-41CCECFF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AA91B-0DC3-4F6A-B3AA-0FD484E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54876-DFD8-4DE9-98E4-7347FD17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4BE45-94A3-4E85-9474-E9C85B7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62A8B-A0EA-4238-A188-7749CE03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BA790-F2A3-455F-B6CA-A8F8EB2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21D-8829-41B3-AC07-6436A45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71A02-87C7-47CB-BDEB-ADD60EE2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96DD0-002A-4208-8CCD-0EA008F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B16FB-1260-4611-A7B8-5AD7A8E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02F7B-92F4-4772-8D32-217B8CE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A81B1-2E6D-4466-AAF4-4B6A687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3DA7E-A9C5-4661-A607-B7756398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302D7-EA71-44DC-A06E-964C8C58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8B24A-5DF6-4BD3-B0A6-2C889024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692FA-807D-42B5-924F-0C32217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D1D5B-A38C-41DF-87F6-F26DA827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35D4-9E30-4AB8-82BF-EE9E550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FB6EE-4C35-4468-B577-709A6D8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956F8A-F023-47C2-BEEC-5006BBD9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7FE60-C07B-4867-A803-746C6FA0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5FC1A-674B-47C8-8AAD-FFF9829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5AC84-5CCE-466C-9308-374E6F2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24BE3-3FB0-44D7-9F65-AE77299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C206E-C6DB-4A1A-91E2-E01F1B44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25116-31D4-4F29-A737-A29434FC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0C97C-C95F-420C-B430-1D577177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C0EC-93B1-4ACD-9E1A-D712CBCE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580B-D39B-478B-8C60-290AAF2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7EBB-3931-4543-A86E-5210C095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9E03-C3DF-4705-9D43-92CA745F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02D3-0134-46AD-921A-0717F84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34A1-3E2D-42E1-B671-795A792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5763-9F1C-484C-87B1-B3FEEC7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01D-123A-41D9-8A18-237285C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F853-6984-4CE6-92A9-DA8447E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6F7D-43C6-4020-8CF5-A06EE6F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B4EE-2A3C-457F-855D-3EC3597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4599-6183-4F6B-BD31-BF41C56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326F-AD07-4B0E-9949-82CBB924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FF9F-7673-4C58-97C5-93DD8872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262C-63BE-427E-B83D-B4F65F4A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F001-7A2F-4F68-947D-C233775E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94F8-16DA-483E-A811-3F23C53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B3E2-08AC-4BF1-A66A-F980A006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0F1-ACB1-4D00-A432-13B6691D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5579-0EA1-4F28-8645-3CE4E1B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E8E7-26B9-4291-B0F1-C9FEADB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35A3-E1ED-4703-A049-08AAE7F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686C-E82B-4AE2-8701-755BCFD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8167-798A-472D-8E72-AF6EA95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71BA-B91F-43F5-B4E4-C147AB3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C6E5-71AC-4E6B-B2EA-5A3DBB10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52A3-E854-496E-BC5E-41ACF0F2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C38F-E196-42F9-927C-3994D0AE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128D-9307-4EAD-A214-CBACDFE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BDF-8264-4E65-866C-AC2B9AF8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3ED5-5A20-484F-8728-D9D7CFE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71C5-D921-4ACE-8860-3F170B9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633EE-31A7-4787-ACC2-5E29F6E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C18B-7306-4280-B2C2-74FD235B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B504-22C5-4709-85B4-FB86973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1EC7-0CF1-4878-AFCC-FB7EB76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4986-EDDD-4D47-AC90-2790E96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A9EA-F02B-4AAE-8F0F-B1E6CDC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44DA-E9B6-4C86-851F-E395D66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B7C6-792E-4D5D-8FC3-0955762E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196-FC9A-4DFB-9B6E-8142EFC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F67E-8B1D-423F-A28E-77E039B1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332F-C395-4659-9D02-BD392F4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F547-4E12-4B2D-8ADF-4105968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D5F2-0AA8-44DB-9098-DD9D8B75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60FD-59D6-4C5C-8FE9-E213277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D0DD-CD2A-4C30-8E1C-C22D4572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B7EA-5CD5-42A1-9CBF-0300AA13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F175-46E6-402B-A97A-C949C7A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CF14-404B-4CFF-97CC-747C2EE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DFB7-7F23-4287-8A6E-D1F3093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4BB-7654-4840-94C7-1B979C2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A8D3-53DD-4CC8-9602-49B6B71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2D00-388F-4040-BFFE-E22449C5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642C9-EA8A-4336-8B8D-3A69CD8A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26C36-120B-4061-B038-C7527871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753D-5637-4302-9E69-D70343CC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F58E-6FE8-44D5-A512-31BFF19A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6F5E-E923-4811-B336-55169BBD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76F1-5957-4717-89EA-679BC4E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167B-68DA-4928-AE0D-2CDD49F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3779-4A9C-47A3-A475-444E749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3B9-27DD-41A9-AE1F-26AF32B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D022-3163-4E45-B8DA-E838F33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0F5B3-0D44-4185-AB69-3506C61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A0E7-E23E-4B0C-8047-B1852B3D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1407-0F2C-4420-B2D6-071DFF25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2D96-5F23-462A-9A31-8F71E7F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80FE-66F4-4781-A757-A121D292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DCC9-4C7F-4BF0-9D16-BA6631F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FB3A-0DE6-47BF-8E31-1EBAA78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13A7-16D5-42EB-A873-465329F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130C-8FA4-447A-89ED-924554BD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D0B-A6B5-442D-84D4-DA7EA20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B45A4-AF14-456B-BEA9-5C70CCBF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3A9B8-0D39-464C-AF99-2E5DF04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B42B8-B85F-4BE0-9949-F51B344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AEEC-34E4-41AD-B666-7662A24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EACE-A907-42D4-AD2D-2E8CD42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F86F-134B-4145-B805-4EAB528B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F693E-722D-4794-ABC5-0CBF5CAF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3883-DA82-4839-8B4F-F6F4EAB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0DF4-1023-4A66-A3A9-E9F9C8AC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06276-2EB3-4DD7-B048-02A58F1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5F8-EB86-4450-9765-AFE95885640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24D-9B11-403B-B494-805AD2683C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9E2-37AA-4858-B249-86CE2D496A3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6BD-82C3-47B5-8DB4-331F934D1E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7BC-E9F1-41A7-A5B9-BA872C2E7DF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E84-8EE5-4F0C-B16C-E1F7D86FD7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3E9-0B6E-48AC-BB35-A1C5C32658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1B4-A410-4A8A-8CD0-CDCE0ECD4C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E9FD-2B91-48CE-BAD4-D2947B5645B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697-170B-41A2-B499-0CC5FC1D3E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33AF-AE50-411E-AA60-C39CF476575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2BC-0DAC-4F45-A92E-CA0DB5FA66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E07-9DFD-4325-9059-9D04DAB5A83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2FC0-F8A3-4A57-9507-320B47D0AD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1311-AAB5-433C-95B8-352A1AAAE1F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65E-3305-4030-961D-4A77680DCF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E99-B4E3-4D5F-87FC-0E400FEBBAD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EE8-EC93-4B0E-9E4D-6FE97DDCB4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1680-B501-4011-B075-DA202EBB158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0E2-BA50-482E-B7F0-5F4DE8B681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6B9-F58C-42C5-849F-ACD8983F710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E1D7-57F8-4831-8285-A8BAA243F2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28D-D09A-4FF3-9D2B-D7E0883C374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899-56D8-4AA4-AAD4-B1A3001AB0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C565-CEBE-47B6-A556-EAB25706252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8658-93FD-4AFC-9033-34E77E3794A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A60C-8955-4092-8C40-C334CCFE43C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EBE8-F3EC-40A5-A93C-D84AED5C44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FD87-93DB-4C45-A289-7F59F425E06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1A7C-96FE-46C0-89C5-042A51B69B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115-9F12-4936-9E88-3BC72CADBDE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EA0-0C2A-4F7E-81E6-9984B9873B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FFF-9EAA-4014-8903-9BA318AE308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A6E-B7FD-4C38-9139-92FBE2882F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690-77E3-48B6-8F8D-54C24BB55E2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D67-E247-450E-8151-3FE5DC778E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1156-E81B-4DE3-A6E0-061D19688CA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659-139A-4B43-AC9E-0A6E19177D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45C8-9F84-42AD-A0A4-F9F660EC926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7DC-2D58-4DEA-B4B0-EB56EF22AC4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357C-ABF9-4B8B-AB97-C917C555EEF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4DDF-DB92-4ED1-9085-7D8DDC55019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55D1-B270-4520-B4CE-54B64A3E50A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018-05A5-4C90-B82E-D3F97073602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C210-AC11-48BB-A623-0F4A63520FF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CA38-AA69-4396-AF9B-396A1F817C1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BC8F-1128-41B7-99DC-EA51AA6A1D2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5BF-8C84-4E4A-8DC4-88604481996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E5A-63D3-44B7-8166-7869F6BFA58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as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6C4-6EC5-4859-8312-DD67E8AD900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5C93-7E5C-4ED6-BCE7-E77036E5C4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CF2C-A09C-45D6-8814-B1E712B0F9F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A02-9B9A-4217-89D7-2B0EAFB9D6D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51B-6F7F-438B-BB23-0C6E61C9BCE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Fanny Zirulnik</cp:lastModifiedBy>
  <cp:lastPrinted>2012-05-07T21:30:02Z</cp:lastPrinted>
  <dcterms:modified xsi:type="dcterms:W3CDTF">2016-08-30T22:07:44Z</dcterms:modified>
  <cp:revision>42</cp:revision>
  <dc:subject/>
  <dc:title>Presentación de PowerPoint</dc:title>
</cp:coreProperties>
</file>